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6B8-E9E0-42D6-B00A-79B1EC45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21B-731F-4573-8CB9-5B120C54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22B-E70D-43D9-A36D-D63323DE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0E4-0C3D-4120-854C-0F8E850D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CE2-536C-4983-B93D-588C4931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F07-FB41-4283-AA81-971B025C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8DA-FC3D-473C-80BB-AC7C9B9C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8A1-062F-49A1-8F41-63455A6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F10-9235-4353-B4D6-94EF708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2CD-AB79-44A5-839E-F1337CD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806-7B7E-44FE-A551-A47C6876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382-748F-4B66-BFFF-851B185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8A5-D466-445E-B283-0B53E75EB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Курить – здоровью вредить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4221000"/>
            <a:ext cx="5248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560" y="4149720"/>
            <a:ext cx="691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доровье – не всё, но всё бе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доровья ничто. 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484360" y="260280"/>
            <a:ext cx="42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ссивное ку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754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детей из семей, где родители курят дома, чаще болеют в раннем детстве, пропускают школу и вообще получают меньший запас здоровья на будущую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рение родителей на 20-80% увеличивает риск заболевания дыхательной системы, тормозит рост легких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4865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чему курить – плох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чему не курить – хорош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227640" y="76500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МПТОМЫ ПРИ ОТРАВЛЕНИИ НИКОТИНО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61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шн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юновы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дление пуль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руднени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жение зра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лодеют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ройства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ройства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дор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73880" y="1700280"/>
            <a:ext cx="2670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ОСЛЕ ПАРАЛИЧА ДЫХАНИЯ И ОСТАНОВКИ СЕРДЦА  НАСТУПАЕТ 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МЕР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19280" y="2214720"/>
            <a:ext cx="6192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Times New Roman"/>
              </a:rPr>
              <a:t>Курящая во время беременности женщина подвергает  своего ребёнка смертельной опасност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 выбираю жизн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2009880"/>
            <a:ext cx="72723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роха-сын пришел к отцу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И спросила кроха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- Если я курить начну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Это очень плох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.А. Оганова «Кроха-сын и отец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89000"/>
          <a:ext cx="1542960" cy="19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15429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35164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от некоторые заболевания, наиболее характерные для табакокурения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 бронхах - хронический бронхит курильщик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изистая оболочка пищевода истончена, повышенно раним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 желудке - хронический гастрит курильщика или язв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изистая оболочка толстого кишечника тоже изменена, нарушена его моторик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мелкие артерии, артериолы - повышенно возбудимы, склонны к спазмам..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расстроена работа потовых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альных желёз кожи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олосы истончены, секутся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ыпадают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и др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580000" y="4757760"/>
          <a:ext cx="356400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4757760"/>
                    <a:ext cx="35640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Бросить курить легко - я сам 100 раз бросал" (Марк Тв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12 годам сигареты пробуют уже 30% россиян, к 13 годам - 47%, к 14 - 55%, к 15 - 65%, к 16 - 78%, к 17 - 8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ою первую сигарету мальчики выкуривают в возрасте до 10 лет, девочки - в 13-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15 годам каждый десятый курящий подросток уже стр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котиновой зависим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43640" y="4824360"/>
            <a:ext cx="2700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 мнению мед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сигарета сокращает жизнь на 15 м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пачка сигарет – на 5 ч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т, кто курит 1 год, теряет 3 месяц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курит 4 года – теряет 1 год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курит 20 лет – 5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курит 40 лет – 10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4416480"/>
            <a:ext cx="3203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9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язнённость табачного дыма значительно выше – в 4,25 раза- загрязнённости выхлопных газов автомоби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248 раз - отработанного газа кухонной горелки, более чем в 1000(!) раз выдыхаемого человеком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куривании пачки сигарет в день курильщики фактически дышат воздухом, загрязнённость которого в 600-1200 раз превы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35640" y="4038480"/>
            <a:ext cx="370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ире курят около 50% мужчин и 25% женщин. Под влиянием этого фактора в силе устоять только 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ие считают курение привычкой, полагая, что это только вопрос волевого усилия. Курение это не прост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вычка, а такж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ённая форм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ческ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576600"/>
            <a:ext cx="4356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ИКОТИН УБИВАЕ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62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001 гр – ВОРОБ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4-0,005 гр – 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0001 гр – ЛЯГ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1-0,08 гр -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42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39:22Z</dcterms:created>
  <dc:creator>Наташа</dc:creator>
  <dc:description/>
  <dc:language>en-US</dc:language>
  <cp:lastModifiedBy>Малышев</cp:lastModifiedBy>
  <dcterms:modified xsi:type="dcterms:W3CDTF">2009-05-18T17:29:30Z</dcterms:modified>
  <cp:revision>7</cp:revision>
  <dc:subject/>
  <dc:title>Слайд 1</dc:title>
</cp:coreProperties>
</file>